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4AD-0794-416C-9BEC-2DB6BE72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A7D-ED18-47C7-A8E1-780EC436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B7C-F565-47D4-9E49-92607F5E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B09-98B1-4AF8-910F-7BA9BF37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A11C-5D67-4F35-87F5-6831646D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31CE-B0C5-4D9A-9273-D9C9554D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CA22-6A98-443B-93F1-6F29ED97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C5CE-7364-4D0A-8990-D7079FD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FF6C-2CC7-42D3-8827-07181FF2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E981-F0F0-4B44-A717-DC2205A3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AD97-FCA9-418B-8F0E-3B90636A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EE7-4DA1-451F-B283-45B4AA49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5AEE-39D5-4D47-BBF3-CF10B44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C5A-C6F8-403A-999A-85C001C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BB3-4C73-4CBC-90BC-75C0DC3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D0B4-B0B3-4B3A-97FE-2740824D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5EFC-5685-4D10-84D1-F3B5192D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86F-02F3-42A8-995F-CE67761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6E3-C038-4591-B95E-78F40F93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5B0-127B-46CB-8EA7-887127F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EAA-4B9C-44EC-BC6C-0478B122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594-7458-4946-BE14-45FF0147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128-8D12-4EAD-BA4F-EDCE2D4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23D-055F-42B2-908E-2C90858E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FFD-1C43-47D6-ACF7-CA665D80E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008B-69F3-4AF6-99DF-E588D6054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ASC</cp:lastModifiedBy>
  <dcterms:modified xsi:type="dcterms:W3CDTF">2010-12-15T09:40:39Z</dcterms:modified>
  <cp:revision>5</cp:revision>
  <dc:subject/>
  <dc:title>The History of Russia until 1917</dc:title>
</cp:coreProperties>
</file>